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на енглески јези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Glassware</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ory glassware refers to a variety of equipment, traditionally made of glass, used for scientific experiments in chemistry and biology. Some of the equipment is now made of plastic for cost and convenience reason, but glass is still used for some applications because it is relatively inert, transparent, and relatively easy to customize. Borosilicate glasses such as Pyrex are often used because they are less subject to thermal stress. For some applications quartz is used for its ability to withstand high temperatures or its transparency in certain parts of the electromagnetic spectrum. Special-purpose materials are also used; for example, hydrofluoric acid is stored and used in containers made of wax or polymer because it attacks glas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Language in Pharmacy Practice” by Leontina Kernica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tu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k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ing tu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chner fun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ence fla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i d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vet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syri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g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t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et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or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 j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ical mea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xhlet extra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CES OF LABORATORY GLASSWA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BEAKER AND BUCHNER FUNNEL IN LABORA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LABORATORY FL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SOXHLET EXTRACT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ds can be derived from the following:</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i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b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sentences by choosing either the gerund or bare infinitive:</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oint of…..............this important lesson. (learn/lea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n’t feel like……………..this medicine just now. (take/ta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rather…………….at home. (stay/st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hing can make Steven…………..his mind. (change/cha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n’t it be worth …………….greater attention to this problem. (pay/p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have her………………do now? (do/do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t let this question………………here. (rest/re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 use……………..that all over again. (discuss/discu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t the verbs in brackets into the Present Perfect Continuous or Past Perfect Continuous Tense:</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tudy) pharmacology for hours, so now I’m going to have a 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tient (smoke) for thirty years before the doctor told him that he had to quit doing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 his research for the last two years, but he hasn’t finished it y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rite) for hours when she remembered that she had an appoin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for this scientific congress (go) on for some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ork) on this important project since 200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ere very tired; we (walk) for eight hours without re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book (lie) on the table for wee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parts of the sentence in the right order:</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000" spc="-1" strike="noStrike">
                <a:solidFill>
                  <a:srgbClr val="000000"/>
                </a:solidFill>
                <a:latin typeface="Arial"/>
              </a:rPr>
              <a:t>natural system/the body/against/disease/has/own/its/of/def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the patient/the risks/of/must/to/no treatment/be hel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diseases/spread/some/through/may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ment/this disease/if/on time/usually/is diagnosed/successful/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hysical skill/can be/relaxation/psychological/which/useful/overcoming/is/in/st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3-02-14T11:01:16Z</dcterms:modified>
  <cp:revision>19</cp:revision>
  <dc:subject/>
  <dc:title>Slide 1</dc:title>
</cp:coreProperties>
</file>